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3F3-1474-480D-92E6-AC3C5FE1CC60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0360-C97E-485C-8B0A-E72005AFE7B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1F6-1CF4-403B-8341-D0FF7D90D37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taone.org/best-practices" TargetMode="External"/><Relationship Id="rId2" Type="http://schemas.openxmlformats.org/officeDocument/2006/relationships/hyperlink" Target="https://www.dataone.org/content/assign-descriptive-file-names" TargetMode="External"/><Relationship Id="rId3" Type="http://schemas.openxmlformats.org/officeDocument/2006/relationships/hyperlink" Target="http://en.wikipedia.org/wiki/Software_versioning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Management In The Lab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cumentation and Metadata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y are lab Data Management policies important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mmon Language – Data Stag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ab policies you should have (and be using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 Nam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rastructure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ab Data Management Polic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Reduce confusion, lost work when students graduat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Reduce ramp-up time for new students or lab staff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elp easily re-create figures from old papers, etc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elp all members of a lab quickly find critical data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Increase awareness of Data Management issu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re a great start towards metadata creation and meeting NSF requirement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Box 6"/>
          <p:cNvSpPr/>
          <p:nvPr/>
        </p:nvSpPr>
        <p:spPr>
          <a:xfrm>
            <a:off x="1300320" y="2144880"/>
            <a:ext cx="4287600" cy="86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Organ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tandard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ocessed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ality Controll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naly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ummar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sented/Publish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rchiv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Stag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6088320" y="411480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Use data stages as a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common foundatio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for lab policies and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practice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6"/>
          <p:cNvSpPr/>
          <p:nvPr/>
        </p:nvSpPr>
        <p:spPr>
          <a:xfrm>
            <a:off x="1300320" y="2144880"/>
            <a:ext cx="4287600" cy="86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Organ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tandard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ocessed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ality Controll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naly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ummar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sented/Publish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rchiv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Stag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5928120" y="4114800"/>
            <a:ext cx="69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Does everyone in your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lab understand and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agree on what thes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terms mean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8"/>
          <p:cNvSpPr/>
          <p:nvPr/>
        </p:nvSpPr>
        <p:spPr>
          <a:xfrm>
            <a:off x="-1950120" y="9016920"/>
            <a:ext cx="166892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For more info - https://www.dataone.org/content/assign-descriptive-file-nam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1"/>
          <p:cNvSpPr/>
          <p:nvPr/>
        </p:nvSpPr>
        <p:spPr>
          <a:xfrm>
            <a:off x="406440" y="2332080"/>
            <a:ext cx="94489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Make file names unique!  Include</a:t>
            </a:r>
            <a:r>
              <a:rPr b="0" lang="en-US" sz="3400" spc="-1" strike="noStrike">
                <a:solidFill>
                  <a:srgbClr val="7f7f7f"/>
                </a:solidFill>
                <a:latin typeface="Helvetica Neue Light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(as appropriate):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Project name or acronym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Study titl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Location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a typ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Researcher initials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e    </a:t>
            </a:r>
            <a:r>
              <a:rPr b="0" lang="en-US" sz="3400" spc="-1" strike="noStrike">
                <a:solidFill>
                  <a:srgbClr val="6e6e6e"/>
                </a:solidFill>
                <a:latin typeface="Helvetica Neue Light"/>
              </a:rPr>
              <a:t>(YYYYMMDD for easy sorting)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a stage   </a:t>
            </a:r>
            <a:r>
              <a:rPr b="0" lang="en-US" sz="3400" spc="-1" strike="noStrike">
                <a:solidFill>
                  <a:srgbClr val="6e6e6e"/>
                </a:solidFill>
                <a:latin typeface="Helvetica Neue Light"/>
              </a:rPr>
              <a:t>(see previous slides)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Version number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File typ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TextBox 12"/>
          <p:cNvSpPr/>
          <p:nvPr/>
        </p:nvSpPr>
        <p:spPr>
          <a:xfrm>
            <a:off x="406440" y="7924680"/>
            <a:ext cx="12192120" cy="183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O – Use underscores or dashes.   DO NOT – Use spaces or special chars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WRITE DOWN conventions for your lab and save to a shared space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File Naming Conventions Done Righ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5"/>
          <p:cNvSpPr/>
          <p:nvPr/>
        </p:nvSpPr>
        <p:spPr>
          <a:xfrm>
            <a:off x="330120" y="7162920"/>
            <a:ext cx="12420720" cy="3236760"/>
          </a:xfrm>
          <a:prstGeom prst="rect">
            <a:avLst/>
          </a:prstGeom>
          <a:solidFill>
            <a:srgbClr val="ffff00">
              <a:alpha val="88000"/>
            </a:srgbClr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- Communicate with your lab/research group and agree on 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 file naming convention that includes a versioning system.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- WRITE IT DOWN and save to a shared space.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ersion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558720" y="2514600"/>
            <a:ext cx="8610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 very personal practic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But lab policies can help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Version at each data stag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ommon version identificat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ex. ‘x.y’ = ‘major.minor’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frastructure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558720" y="2590920"/>
            <a:ext cx="10287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gain, often very personal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gain too - lab policies can help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greed-upon file organization framework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Submitting data to lab infrastructure at each stage using common file naming convention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DataOne Resourc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DataOne File Naming Guid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Versioning Guidelines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(for software but also apply to data, documentation, etc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56:09Z</dcterms:created>
  <dc:creator/>
  <dc:description/>
  <cp:keywords/>
  <dc:language>en-US</dc:language>
  <cp:lastModifiedBy>Lynn Yarmey</cp:lastModifiedBy>
  <dcterms:modified xsi:type="dcterms:W3CDTF">2012-03-01T01:22:03Z</dcterms:modified>
  <cp:revision>42</cp:revision>
  <dc:subject/>
  <dc:title>ESIP Federation 101</dc:title>
</cp:coreProperties>
</file>